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E8C-2F44-4405-B5BF-021821E6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C01-BB30-46C3-AFC5-EB33606A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52A-6AC9-4654-AF3A-3CB3A99B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D75-8B6E-4715-96DB-5519CA85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229-6FBB-4FD0-B5D6-8D580258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E4B-F447-4928-AE52-314C782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BD8-CF9F-4254-B3C1-0DF6DC19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776-9ADF-4159-A37F-692ADE2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41C-69E1-4B5E-BA7E-9D3FDE8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7C9-0D86-4E01-BAAC-FF86350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C59-929F-42D1-9C9B-B09D380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721-2FC3-4C93-840C-AAF5FA1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C99-CF34-4D9A-A599-EBC7A0B31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9560" y="-15480"/>
            <a:ext cx="66470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808080"/>
                </a:solidFill>
                <a:latin typeface="Monotype Corsiva"/>
              </a:rPr>
              <a:t>38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лед една седмица трудн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от делата на тоз свят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тигнахме почивка чудн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 ден благословен и свят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Рад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блаженство дав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къп е дар от Бога мой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душа ми освежав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 него имам аз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911520" y="1824120"/>
            <a:ext cx="670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амо шест дни да работим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определи за нас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едмия пък да осветим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повяда Той тогаз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о не първий ден, неделя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 покой е отред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секи трябва да отдел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вят за Него седмий д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921960" y="2350800"/>
            <a:ext cx="6930360" cy="4483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дам съботата в ра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пази, също и Христос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жиите слуги до кра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ледват този пример прост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сичко може да пропадне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о законът е без край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ито събота ще падне - 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я ще трай и в вечний р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03:33Z</dcterms:created>
  <dc:creator>TrifonTrifonow</dc:creator>
  <dc:description/>
  <dc:language>en-US</dc:language>
  <cp:lastModifiedBy>TrifonTrifonow</cp:lastModifiedBy>
  <dcterms:modified xsi:type="dcterms:W3CDTF">2005-11-23T17:20:42Z</dcterms:modified>
  <cp:revision>5</cp:revision>
  <dc:subject/>
  <dc:title>Slide 1</dc:title>
</cp:coreProperties>
</file>